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CCC-DE60-4E59-85E8-09D08730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7E3-F64F-4F20-9C79-851D00A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8F8-EDA2-44AC-8C70-A52C97F1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0D0-5B55-43FA-832B-3F3DB9B5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5CD-4D7F-4E38-B75B-FB84263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1BB-271C-4BC6-B191-8025ED64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5BE-F1DD-440A-BF94-A3818989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15A-499A-43BC-9074-5883B20D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86E-4859-4B49-905E-EC7E3E0B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ADB-25A2-410F-B0DA-E536220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40E-4111-4741-B029-F453A01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1B9-B705-4BEF-B067-E2AE35A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4BE-D211-40E0-BC71-148D7E0D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 language (compiler) on CD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gram using an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Development Environments (IDEs) may be used or any tex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editing and compil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n th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uccessful compile the “Hello.java” program is translated into a second program “Hello.class” (byte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un “Hello World!” (without qu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spla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K button to display “GoodBy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 file may need help from an already written program – in a library of such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missing (or was not ca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name misspe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of Hello program refering to lin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mport java.aw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mport java.awt.even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mport javax.swing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ublic class Hello extends JFram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ublic static void main (String [ 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JOptionPane.showMessageDialog (null, “Hello World!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JOptionPane.showMessageDialog (null, “Goodby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System.exit(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// end ma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// end Hell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 of line number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3 libraries inv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lank line to help rea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9 output Hello and Good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–stop run (System ex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, methods: an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D playe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 identical on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: “Sto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: kitchenCD.stop (more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chenCD.stop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roomCD.select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ht mean play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ck on the CD in the bedroom (as an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: the (4) in the CD example tell which track to play – some methods need parameters/arguments passed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an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D example kitchen/bedroom in an “inheritance” example of a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we may need another instance “den” which will inherit from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uses “new”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nstances (also known as objects) of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an produce instances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ting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.setSize(300,2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age 18 for the full text of “Gree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is in pixels 300 horizontal wide and 200 vertical he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e names and extension names must be u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follows a period – after the program name. Tells what type of program (file)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s may hold several relate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s (folder) may hold files and/or other f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progs   letters(f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90560" y="5029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4952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Explorer can list folder and file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/Linux, Apple O.S. may do the 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n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(open) an old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 changed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, insert, change data, cut, copy/paste from/t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/replac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ors are available: NotePad, Word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ust become familiar with the editor of thei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first Java Progra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ral programs are provided to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editor to key in the following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9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java.awt.event.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Hello extends JFram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atic void main (String [ ] arg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Dialog (null, “Hello World!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Dialog (null, “Goodbye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// end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// end Hello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the file a name “Hello.jav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ing (translates/converts Java statements into byte code) a language a Java compiler underst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 is an idealized language Not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 must be inperpreted by the JVM (see appendix “I” for detai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ror messages appear when program does not use correct syntax (gramm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.java: 9: ‘;’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number nine of the program seems to need a semi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lons missing/wrong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ckets m i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quotes used when double quote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19:58Z</dcterms:created>
  <dc:creator>ITS</dc:creator>
  <dc:description/>
  <dc:language>en-US</dc:language>
  <cp:lastModifiedBy>ITS</cp:lastModifiedBy>
  <dcterms:modified xsi:type="dcterms:W3CDTF">2005-04-26T16:20:21Z</dcterms:modified>
  <cp:revision>1</cp:revision>
  <dc:subject/>
  <dc:title>First Programs Chapter 2</dc:title>
</cp:coreProperties>
</file>